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A2D6-8E23-42F8-83EC-6363BA0B9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275E-D276-452B-8B80-120F9A8A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83C6-BF05-4F40-BB11-54AE07EA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A7A2-6C79-4DA9-8F13-0CA52B4D5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28B6-F515-4170-95AD-8B54C429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B9B8-C33C-4E36-987A-29F8AAFE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58E0-665C-4515-9A8B-DED37807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A60D-9208-4ACE-B98E-01923F73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65AE-DAC4-4492-A8E9-136C300B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CAB9-ADF1-4EEA-A1DB-C3B418E5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5FFB-2E28-499A-9300-D916F2DC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3BA8-4524-40B9-8C97-669B477D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1E6C-7B77-4CA7-A311-506B55634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EGRESSION/PERSISTENCE/PROGRESSION LIKELIHOODS – FROM A G OSTER 199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ABL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09480" y="1981080"/>
          <a:ext cx="7925040" cy="4233960"/>
        </p:xfrm>
        <a:graphic>
          <a:graphicData uri="http://schemas.openxmlformats.org/drawingml/2006/table">
            <a:tbl>
              <a:tblPr/>
              <a:tblGrid>
                <a:gridCol w="1062000"/>
                <a:gridCol w="1684440"/>
                <a:gridCol w="1725840"/>
                <a:gridCol w="1726920"/>
                <a:gridCol w="1725840"/>
              </a:tblGrid>
              <a:tr h="118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res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sist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on to CIN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on to Invasive Canc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N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N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~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N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5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1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7640"/>
            <a:ext cx="9144000" cy="65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duction in Cumulative Incidence with Different Frequencies and Different Coverage Rates (women aged 35-64)  IARC 1986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quency of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ortion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 Reduction in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. of Tests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Screening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reened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mulative Incidence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er Wo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yea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yea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 yea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0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 yea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 yea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0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4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tabl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9200" y="861840"/>
            <a:ext cx="8166240" cy="12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ffect of Different Screening Policies on Incidence Rates in Western Europe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(assumes 100% coverag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70200" y="2209320"/>
            <a:ext cx="9258120" cy="427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rmAutofit/>
          </a:bodyPr>
          <a:p>
            <a:pPr indent="0">
              <a:lnSpc>
                <a:spcPct val="95000"/>
              </a:lnSpc>
              <a:spcAft>
                <a:spcPts val="1599"/>
              </a:spcAft>
              <a:buNone/>
              <a:tabLst>
                <a:tab algn="l" pos="0"/>
                <a:tab algn="l" pos="1911240"/>
                <a:tab algn="l" pos="4284720"/>
                <a:tab algn="r" pos="733572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creening    Schedule    % Reduction in Rate   No. of Te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599"/>
              </a:spcAft>
              <a:buNone/>
              <a:tabLst>
                <a:tab algn="l" pos="0"/>
                <a:tab algn="l" pos="1911240"/>
                <a:tab algn="l" pos="4284720"/>
                <a:tab algn="r" pos="733572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 year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-6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83.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 year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5-6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81.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 year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5-6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599"/>
              </a:spcAft>
              <a:buNone/>
              <a:tabLst>
                <a:tab algn="l" pos="0"/>
                <a:tab algn="l" pos="1911240"/>
                <a:tab algn="l" pos="4284720"/>
                <a:tab algn="r" pos="733572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 year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-6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91.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 year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6-6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89.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 year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5-6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7.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599"/>
              </a:spcAft>
              <a:buNone/>
              <a:tabLst>
                <a:tab algn="l" pos="0"/>
                <a:tab algn="l" pos="1911240"/>
                <a:tab algn="l" pos="4284720"/>
                <a:tab algn="r" pos="733572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 year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-6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93.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5120" y="6237360"/>
            <a:ext cx="357552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ARC, 1986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ab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7T16:37:56Z</dcterms:created>
  <dc:creator>Julietta Patnick</dc:creator>
  <dc:description/>
  <dc:language>en-US</dc:language>
  <cp:lastModifiedBy>ahti</cp:lastModifiedBy>
  <cp:lastPrinted>2003-03-19T07:15:40Z</cp:lastPrinted>
  <dcterms:modified xsi:type="dcterms:W3CDTF">2003-03-20T12:03:46Z</dcterms:modified>
  <cp:revision>5</cp:revision>
  <dc:subject/>
  <dc:title>PowerPoint Presentation</dc:title>
</cp:coreProperties>
</file>