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C74-9EF8-4D72-8834-78EB20C5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524-1584-4F90-B8FB-EEF2C2A0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0A2-9031-4B7A-8D69-46A2342A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BBF-941F-47A0-A71F-026C7B05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049-FC24-4772-BBB5-91256758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018-E37B-4033-BB78-5AD220D1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560-B83D-49E8-91F4-994667F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144-792E-43C3-B0F1-5C52C483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D9C-AF4D-488B-A343-2DF4F5B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0A0-0A42-4C35-AFDF-086A83B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576-8006-437F-8BD0-0D49EEC8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124-73F6-49B9-9D21-4F72A0E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08E-6A69-4D25-9D2E-B1EC071B2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6324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143000"/>
            <a:ext cx="23619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mears taken with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st 3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219320"/>
            <a:ext cx="34290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mears not taken within last 3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981080"/>
            <a:ext cx="10666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follow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981080"/>
            <a:ext cx="129528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f no sm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efore,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fter 3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1981080"/>
            <a:ext cx="3200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81280"/>
            <a:ext cx="3505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581280"/>
            <a:ext cx="12956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t-decl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n-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657600"/>
            <a:ext cx="13716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n-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3434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follow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343400"/>
            <a:ext cx="12952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f no sm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efore,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f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4495680"/>
            <a:ext cx="33526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248520"/>
            <a:ext cx="33526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6172200"/>
            <a:ext cx="1295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t-decl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n-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6172200"/>
            <a:ext cx="13716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n-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7162920"/>
            <a:ext cx="11430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follow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7162920"/>
            <a:ext cx="12952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f no sm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efore,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f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48769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48769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6629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6629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igure 2 : Example of Dane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838080"/>
            <a:ext cx="6324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arget population : identified by a central population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752480"/>
            <a:ext cx="23619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vitation of all wo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752480"/>
            <a:ext cx="32763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pportunistic screening : no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743200"/>
            <a:ext cx="1600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743200"/>
            <a:ext cx="14475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28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igure 1 : Example of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962520"/>
            <a:ext cx="2057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rmal sm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962520"/>
            <a:ext cx="1904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normal sm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181480"/>
            <a:ext cx="2057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be rescree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 5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5181480"/>
            <a:ext cx="2286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follow-up and  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2096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27672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609480"/>
            <a:ext cx="6324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arget population : estimated by cen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523880"/>
            <a:ext cx="2819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pen invitation by GP or Gyne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523880"/>
            <a:ext cx="3276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ealth insurance lists : no sme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imbursed within 2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5146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34290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352680"/>
            <a:ext cx="3657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creening register : all smears tak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 the target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343400"/>
            <a:ext cx="17524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343400"/>
            <a:ext cx="17524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952880"/>
            <a:ext cx="129528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f no sme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efore to 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cree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 one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629400"/>
            <a:ext cx="12193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739152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be scree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 3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952880"/>
            <a:ext cx="16002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follow-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d 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gis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lposcopy,hist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treat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29000" y="3048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143000" y="40384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6934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648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46479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7315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2860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igure 3 : Example of Alsace (Fr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1337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0:37:37Z</dcterms:created>
  <dc:creator>Marika</dc:creator>
  <dc:description/>
  <dc:language>en-US</dc:language>
  <cp:lastModifiedBy>ahti</cp:lastModifiedBy>
  <dcterms:modified xsi:type="dcterms:W3CDTF">2003-03-20T12:01:43Z</dcterms:modified>
  <cp:revision>9</cp:revision>
  <dc:subject/>
  <dc:title>Présentation PowerPoint</dc:title>
</cp:coreProperties>
</file>